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571E-5993-49AC-8244-16E53770A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70E0-49D3-4065-ADE7-F301BAF4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931C-7D42-44FF-8552-241ADE7B7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3A33-4DEB-4FFB-B0FC-6FF45130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DCBF-0E43-41F6-AB95-B528A522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27A4-DC1A-4D68-B5E8-6463D032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C291-06E6-4F86-9FD1-BDD4B046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036C-998C-4E3D-8B4E-1D80D1DB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AA4B-967E-4FA1-B29F-0F170C7F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A38A-C8A6-4326-B50E-20C5EAE3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76F9-EBFC-45D3-88A1-DC75071A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9302-1F8A-49F8-ABDE-0D9B6EC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C5F0-0571-470D-BBE8-0BD2BAAF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6356-C6E5-4B31-B5AE-75BDC820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9593-FD67-4F59-B719-92F7D193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7A11-F2A1-4E30-87F7-872CEC5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D887-0D02-4E54-BE20-E1EC2D60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A262-448F-4DD0-BEFE-BE8D2CE5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09BC-6155-47C6-B117-FBCBD6C9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E70B-B5BC-4463-8FB8-730AE8EC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13E8F-8EAB-4594-80E2-06286240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9CB6-F0A4-4F9B-82C9-9F1931D1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61F1-18CD-4F50-8169-D62CDDEE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2B5F-2F3F-45E3-BA2A-F59C1986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CFF7-6AB8-4B70-BBCF-8460140C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243D-9D02-4389-B0AF-41D4BBA7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4E25-4705-4086-8810-BE1D933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F62-AB6C-4ADE-8F67-59B7173EB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C261-480E-41F9-90F1-E7C5EF4321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1F3-590C-46D3-B2E6-8C2126F1FF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B152-3E07-4548-B1A4-F8322020E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F844-4D95-4DF4-BCD0-15AF0D9EE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99"/>
                </a:solidFill>
                <a:latin typeface="Verdana"/>
              </a:rPr>
              <a:t>Checklist d’ori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duction à la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vue technique d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gnes de conduite clefs du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ystème de gestion de la qualité au labora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criptif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te de débu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SPONSABL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F4C3-11D5-43EF-B4F0-C0DA7B117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1066680"/>
            <a:ext cx="800100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Verdana"/>
              </a:rPr>
              <a:t>L’évaluation des performances peut plus mettre en lumière les opportunités d’amélioration pour le laboratoire que pour l’employ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MCj04260720000[1]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029C-A98D-4484-A58C-4F197FD34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alifications et descriptif de p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1219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« La direction du laboratoire devrait avoir des descriptifs de  poste qui définissent les qualifications et les fonctions de tout le personnel. 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SO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2120" y="2819520"/>
            <a:ext cx="4038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éducation requ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ertificat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iplôme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é requises avant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mpétences requ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a hiérarc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spécifie les responsabi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ô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o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pons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structures d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762120" y="2438280"/>
            <a:ext cx="40384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ptif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CD09-539A-4D43-866A-D3352F898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 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ha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981080"/>
          <a:ext cx="8229600" cy="4543560"/>
        </p:xfrm>
        <a:graphic>
          <a:graphicData uri="http://schemas.openxmlformats.org/drawingml/2006/table">
            <a:tbl>
              <a:tblPr/>
              <a:tblGrid>
                <a:gridCol w="2743200"/>
                <a:gridCol w="1066680"/>
                <a:gridCol w="304920"/>
                <a:gridCol w="533520"/>
                <a:gridCol w="609480"/>
                <a:gridCol w="29718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 technic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édur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lément de procéd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u le manuel de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du man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quipement dispon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 de travail pro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paration réac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correc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 la tâche opportuné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4E02-BCEB-43EA-A407-FE6B122B2E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Verdana"/>
              </a:rPr>
              <a:t>Évaluation des compétences Check-list</a:t>
            </a:r>
            <a:r>
              <a:rPr b="0" lang="fr-FR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(b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752480"/>
          <a:ext cx="8229600" cy="445464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182520"/>
                <a:gridCol w="731880"/>
                <a:gridCol w="182520"/>
                <a:gridCol w="655560"/>
                <a:gridCol w="28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mé d’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 formation requise pour combler les défaillanc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s recommandé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_____ j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s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atur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ien évalu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C45-16DB-474D-ADD3-875C872C42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Évaluation des compé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1676520"/>
            <a:ext cx="8610480" cy="464796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143000"/>
          <a:ext cx="8610480" cy="510840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447560"/>
                <a:gridCol w="1295640"/>
                <a:gridCol w="1218960"/>
                <a:gridCol w="2590920"/>
              </a:tblGrid>
              <a:tr h="835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 d’évaluation des compét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pital principal – Laboratoire de Microbiolo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âc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ation 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des disques trop proches. Ré évaluation dans 14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émocul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ifu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ation dans 1 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plissage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ée do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 éval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rreurs.  Lire le manuel et ré évaluer dans 10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1AC6-F638-4A36-BF92-A3441AE22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80880" y="1523880"/>
            <a:ext cx="396252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à l’évaluation des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s des manuels opéra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vision des mises à jour du man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rmation sur l’équip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Verdan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4572000" y="1752480"/>
            <a:ext cx="426708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ée au trav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spécifique à une tâ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ut ne pa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être liée à l’évaluation des  compé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xe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é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lubs de rev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vues et litté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Form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MCBS00263_0000[1]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20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72AE-94A7-48CF-BAA0-BFB813763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A729-18DA-48B2-BE25-8AD985D2FCD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99"/>
                </a:solidFill>
                <a:latin typeface="Verdana"/>
              </a:rPr>
              <a:t>Ressources de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ersonnel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ité d’assuranc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firmier(èr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ath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des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pidémiolog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valua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abric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ociétés scientifi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ganisations de normalis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0010000[1]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F7B6-B550-4032-A65A-E16484F2B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3520" y="1752480"/>
            <a:ext cx="3733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Personnelle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blème de san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uvaise compré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nque de/mauvais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0E60-F0CA-4582-919F-CAAF9D292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ques/géné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istractions sur lieu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rcharge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rientation médio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rmation insuffis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 d’évaluation des compé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plexités des échanti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bsentes ou pas v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S ambigu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auses d’une performance médio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4:47:58Z</dcterms:modified>
  <cp:revision>202</cp:revision>
  <dc:subject/>
  <dc:title>Slide 1</dc:title>
</cp:coreProperties>
</file>